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4FD-8076-4E69-B339-EBA54A70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018-F369-409A-AE1B-C828241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653-F09F-44B4-BD75-C90D0F6C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193-227F-4279-8D2C-1B179847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53886-4360-4230-8BFD-CE7CBAF8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916F5-F8C8-4134-BF61-78B8ED6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460C-9143-489B-A0C5-08DEBF8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94289-F2FD-49FB-9AED-42515043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A5C98-FFA1-4A93-A967-D3C9C59F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798D6-DC0A-4AB5-AC13-7C3C4F15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BF106-4A2F-4785-B1A6-80E7FB1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E88-9419-4E34-B225-2D802A4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4EC12-906F-4981-8DA9-4CAB39C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B81C-D7C4-4CC6-B8E8-EED6C5D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F9755-5A4E-440E-B7D6-6BC3D757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06BCE-6CB5-431E-9D15-B17C10B8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06124-8898-45CC-8612-9830ABD1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29F-30C6-4CD8-BAE5-5580B48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C77-B09B-4718-9B9C-9BC957CE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02B-4124-4F94-BEC8-BD27F5A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94C-DA27-46C0-B7A1-3317C86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903-8375-4B20-BE9F-1CDD0957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847-435B-4337-A089-CD31DAB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A61-37B1-4672-8745-9FC7C48A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9C6D-0F44-43C7-A378-1469B257F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C3D-211A-4D44-A5C3-A1D4166D0D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50620000%5B1%5D.wav" TargetMode="External"/><Relationship Id="rId2" Type="http://schemas.microsoft.com/office/2007/relationships/media" Target="file:///tmp/home/.config/libreoffice/4/user/gallery/MSj00750620000%5B1%5D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Genetics-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of Hered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Recessive Trait-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orm of a gene that is not fully expressed when two different alleles are pres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allel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tinct form of a 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 or S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le or 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ly or 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2065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we represent allele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trait- upper cas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B, R, T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ssive trait- lower case l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b, r, t,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enes affect traits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 are sections of a chromosome that code for a tr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257800" y="3733920"/>
            <a:ext cx="1325520" cy="1981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179388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543800" y="914400"/>
            <a:ext cx="12193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notype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enetic makeup of an organis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otype of a pea plant that is purebred for yellow peas would be written – 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otype of a pea plant that is hybrid for yellow peas would be written – 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y: Y- yel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 - g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henotype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utward expression of the tra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e se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ay an organism looks and behav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Y &amp; Yy would show yellow p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y would show green pe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18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66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Homozygous-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alleles in a gene pair are identic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Y, yy, BB, bb, TT, t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Heterozygous-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wo alleles in a gene pair are differ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y, Bb, Tt, R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ndel’s Laws- basic rules of inheritance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#1 The law of segregation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Gene pairs separate when gametes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te- sex cell, sperm &amp; eg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w #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w of independent assortment-  traits are inherited independ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means, just because you have blonde hair does not mean you will have blue ey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omestication of dogs may have been one of the earliest human experiments with genetic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estic dogs came from wild wolv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956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828800" y="3581280"/>
            <a:ext cx="2286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433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w #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dominance -  the dominant allele is expressed and the recessive allele can be hid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ploi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with 2 of each kind of chromos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ell has the entire set of chrom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8" dur="20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aploi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with 1 of each kind of chromos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has half the number of chromoso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indefinite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lves with distinct traits were bred to eventually lead to a new breed – the domestic do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tra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267080" y="3657600"/>
            <a:ext cx="1171800" cy="1374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7238880" y="3276720"/>
            <a:ext cx="13716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ait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that can be passed from parent to offsp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1892160" cy="1920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276720" y="2971800"/>
            <a:ext cx="1854000" cy="166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1815840" cy="1600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095880" y="2819520"/>
            <a:ext cx="199404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egor Men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e up with one of the first clues to understanding inheri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ian mo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his work in 18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the garden pea pl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for more than 8 years on his experi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29400" y="2133720"/>
            <a:ext cx="1768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asons Mendel Chose the Garden Pea Pla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ucture of the pea pla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sence of 7 distinctive trai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pid reproductive cycle - 90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057400" cy="2006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3733920"/>
            <a:ext cx="1703160" cy="21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858000" y="762120"/>
            <a:ext cx="1981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rebre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rganism that receives the same genetic traits from both of its par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7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brid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rganism that receives different forms of a genetic trait from each par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TT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ominant Trait-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orm of a gene that is fully expressed when two different alleles are pres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2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3:38:31Z</dcterms:created>
  <dc:creator>Clear Creek ISD</dc:creator>
  <dc:description/>
  <dc:language>en-US</dc:language>
  <cp:lastModifiedBy>Clear Creek ISD</cp:lastModifiedBy>
  <dcterms:modified xsi:type="dcterms:W3CDTF">2010-01-05T20:38:15Z</dcterms:modified>
  <cp:revision>10</cp:revision>
  <dc:subject/>
  <dc:title>Genetics </dc:title>
</cp:coreProperties>
</file>